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4643-7DF7-41C6-8AFB-2D9EAEC37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64E-F096-4E59-826C-FEB3278C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DA5-85A6-48D9-920B-411799D2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E52-E515-4C91-9DF4-59912017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D46-594E-42F8-B29B-ADC0F1C6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B4BC-8840-424F-A762-D97895D7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B9B8-4A83-4DBB-9B15-854F1287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B2BB-8715-4F1E-B6F8-B0D87CA1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9AA2-68D6-4C7C-8EE9-6A6899C8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8FCA-2092-41B6-A191-A2248C65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1B73-3614-4A79-8980-ED0B571C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ECF8-5E62-4897-8EE1-A78AAC00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155-4ADC-4614-A7F6-E1B4F765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C13C-E239-4CFE-A658-17831281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89CA-B7C8-4486-A066-94D0C2C3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6908-4A0A-44B5-9594-BAA99D2F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87EB-84A3-4769-92A6-19B8A0D2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ACF4-125F-4144-AF83-E1BF34F1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2DB-FDF4-4995-A15A-04987654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82E-0C31-44C4-AB04-E4535AF9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B62-EE86-41F2-A18D-673C2C6D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F92-0889-447F-B364-4BDA0448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426-CA18-41FE-BDAC-9D359CB1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9FD-E63F-451B-88D9-1F45A17C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097-D241-416A-86BE-22679801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2DEF-7CD7-4139-AB31-CECEC26B855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C27F-92EF-4AD0-A6C8-79BC5A5D9AC3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owl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badger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Year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Environment and Feeding Relationshi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j0332364"/>
          <p:cNvPicPr/>
          <p:nvPr/>
        </p:nvPicPr>
        <p:blipFill>
          <a:blip r:embed="rId1"/>
          <a:stretch/>
        </p:blipFill>
        <p:spPr>
          <a:xfrm>
            <a:off x="4140360" y="2924280"/>
            <a:ext cx="3456000" cy="278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bfly2"/>
          <p:cNvPicPr/>
          <p:nvPr/>
        </p:nvPicPr>
        <p:blipFill>
          <a:blip r:embed="rId2"/>
          <a:stretch/>
        </p:blipFill>
        <p:spPr>
          <a:xfrm>
            <a:off x="7093080" y="549360"/>
            <a:ext cx="157464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A frog is an amphibian because it lives in water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frog.jpg (19194 bytes)"/>
          <p:cNvPicPr/>
          <p:nvPr/>
        </p:nvPicPr>
        <p:blipFill>
          <a:blip r:embed="rId1"/>
          <a:stretch/>
        </p:blipFill>
        <p:spPr>
          <a:xfrm>
            <a:off x="1332000" y="2060640"/>
            <a:ext cx="6408720" cy="36748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Fish live and breathe in water. This is a stickleback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fish.jpg (15175 bytes)"/>
          <p:cNvPicPr/>
          <p:nvPr/>
        </p:nvPicPr>
        <p:blipFill>
          <a:blip r:embed="rId1"/>
          <a:stretch/>
        </p:blipFill>
        <p:spPr>
          <a:xfrm>
            <a:off x="539640" y="2133720"/>
            <a:ext cx="7777440" cy="280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43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Pond skaters live on the water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5" descr="pondskater.jpg (11137 bytes)"/>
          <p:cNvPicPr/>
          <p:nvPr/>
        </p:nvPicPr>
        <p:blipFill>
          <a:blip r:embed="rId1"/>
          <a:stretch/>
        </p:blipFill>
        <p:spPr>
          <a:xfrm>
            <a:off x="2124000" y="1881360"/>
            <a:ext cx="662472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Ducks are birds that have waterproof feathers. They live on a pond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duck.jpg (22211 bytes)"/>
          <p:cNvPicPr/>
          <p:nvPr/>
        </p:nvPicPr>
        <p:blipFill>
          <a:blip r:embed="rId1"/>
          <a:stretch/>
        </p:blipFill>
        <p:spPr>
          <a:xfrm>
            <a:off x="900000" y="1579680"/>
            <a:ext cx="6912000" cy="50972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Bi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Birds, such as this robin, make their nests in trees and hed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5" descr="robin.gif (12828 bytes)"/>
          <p:cNvPicPr/>
          <p:nvPr/>
        </p:nvPicPr>
        <p:blipFill>
          <a:blip r:embed="rId1"/>
          <a:stretch/>
        </p:blipFill>
        <p:spPr>
          <a:xfrm>
            <a:off x="4643280" y="1628640"/>
            <a:ext cx="4224600" cy="4321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 badger makes it’s home under the ground. It sleeps during the day and is awake at </a:t>
            </a:r>
            <a:r>
              <a:rPr b="0" lang="en-GB" sz="2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night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5" descr="badger.jpg (17236 bytes)"/>
          <p:cNvPicPr/>
          <p:nvPr/>
        </p:nvPicPr>
        <p:blipFill>
          <a:blip r:embed="rId2"/>
          <a:stretch/>
        </p:blipFill>
        <p:spPr>
          <a:xfrm>
            <a:off x="1042920" y="1628640"/>
            <a:ext cx="6913800" cy="48006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n Owl is a bird that sleeps during the day and is awake at </a:t>
            </a:r>
            <a:r>
              <a:rPr b="0" lang="en-GB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ght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owl.jpg (14689 bytes)"/>
          <p:cNvPicPr/>
          <p:nvPr/>
        </p:nvPicPr>
        <p:blipFill>
          <a:blip r:embed="rId2"/>
          <a:stretch/>
        </p:blipFill>
        <p:spPr>
          <a:xfrm>
            <a:off x="468360" y="1484280"/>
            <a:ext cx="3960720" cy="4896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hedgehog is a prickly mammal that sleeps through the winter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43280" y="40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5" descr="hadgehog.jpg (22258 bytes)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44035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 today’s lesson you will lear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different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habitat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rganisms live 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ow to describe the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environment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ifferent habita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special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adaptation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that organisms have to help them live in their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mic Sans MS"/>
              </a:rPr>
              <a:t>Mice are small furry mammal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5" descr="mouse.jpg (15329 bytes)"/>
          <p:cNvPicPr/>
          <p:nvPr/>
        </p:nvPicPr>
        <p:blipFill>
          <a:blip r:embed="rId1"/>
          <a:stretch/>
        </p:blipFill>
        <p:spPr>
          <a:xfrm>
            <a:off x="539640" y="1557360"/>
            <a:ext cx="5327640" cy="41925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rabbit burrows under the ground to make a warren to live i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5" descr="rabbit1.jpg (13833 bytes)"/>
          <p:cNvPicPr/>
          <p:nvPr/>
        </p:nvPicPr>
        <p:blipFill>
          <a:blip r:embed="rId1"/>
          <a:stretch/>
        </p:blipFill>
        <p:spPr>
          <a:xfrm>
            <a:off x="1116000" y="1833480"/>
            <a:ext cx="6264360" cy="43401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For example, a desert is dry and hot during the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ere are some examples ………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5" descr="Dromedary camel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482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1420200" y="549360"/>
            <a:ext cx="63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Verdana"/>
              </a:rPr>
              <a:t>Dromedary camel, Arabian camel, one-humped cam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Habitat: They live South West Asia and North Africa desert regions. They are also live in Australia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They live for 40-50 years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Length: 2.2-3.4m, Tail length: 50cm, Height at hump: 1.9-2.3m, Weight: 450-550k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5" descr="Dromedary camels"/>
          <p:cNvPicPr/>
          <p:nvPr/>
        </p:nvPicPr>
        <p:blipFill>
          <a:blip r:embed="rId1"/>
          <a:stretch/>
        </p:blipFill>
        <p:spPr>
          <a:xfrm>
            <a:off x="1332000" y="1844640"/>
            <a:ext cx="7235640" cy="47196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4" name="Red moon desert.jpg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5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Polar bears fighting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Micro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ed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Communit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 polar bear is the largest land carnivore and has a reputation as the only animal that actively hunts human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Live up to 25 years.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Habitat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spend most of their time on Arctic ice floes, and when they are on the shore they remain near the water. Polar bears are found throughout the Arctic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Adaptations: They are strong swimmers and have many adaptations for an aquatic environmen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are well insulated with fat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nostrils close and their ears are held close to their head when underwat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feet are partially webbed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a remarkable sense of smell and can detect a carcass from 3km aw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large, furry feet that act as snowshoes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creamy-white fur is dense and water-repellent, enabling them to shake dry after swimming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Polar bear and cub"/>
          <p:cNvPicPr/>
          <p:nvPr/>
        </p:nvPicPr>
        <p:blipFill>
          <a:blip r:embed="rId1"/>
          <a:stretch/>
        </p:blipFill>
        <p:spPr>
          <a:xfrm>
            <a:off x="900000" y="620640"/>
            <a:ext cx="7777440" cy="5832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Here are some examples of habita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Different organisms live in different habitats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Can you name two organisms for each of the habita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1:23Z</dcterms:created>
  <dc:creator>Bella Griffiths</dc:creator>
  <dc:description/>
  <dc:language>en-US</dc:language>
  <cp:lastModifiedBy>LEGION2</cp:lastModifiedBy>
  <dcterms:modified xsi:type="dcterms:W3CDTF">2015-12-14T11:42:08Z</dcterms:modified>
  <cp:revision>33</cp:revision>
  <dc:subject/>
  <dc:title>Slide 1</dc:title>
</cp:coreProperties>
</file>